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C3B-B182-4F37-87B8-4F59B4B2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9FE-4CD7-43DA-BE4D-D4090469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7FD-141E-4AAC-9488-B276CB77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170-8FFC-4C7D-8511-957907DA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6FC-F054-4810-8102-BBB19E2A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DA4-8055-46EB-A26E-0182EDC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C92-2E98-4E6C-ABB9-47B36B24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235-BD27-423F-8E07-200DE22C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984-E307-4905-A2AF-32A29817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91F-93B4-4749-B553-A2DBB541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080-EC91-4956-B1FC-EB54F9A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160-9D97-471C-BAAB-C470CD13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FEEF-07C0-49E6-AFAE-89BAE310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irst Intifad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(1987-19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re the causes, events and consequences of the First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’ cause of the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Palestinian ‘weapon’ of the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an deaths by Israeli forces during the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gee camp where the Intifada star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mins - 1.08min from ‘the 50 years war part 2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s on the intif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sources B &amp;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irs pick the best 5 short quotes/statistics from each source and write them down on a piece of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are going to be split into two groups: one from the point of view of Source B, the other Sourc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‘quotes war’: You pick a quote and read it, the other group replies and I judge who ‘won’ the round and continue… Winning side get cho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if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Arabic for ‘shaking off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translated as ‘rebellio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irst Intif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etrol bomb and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build my sta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bear my revolu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my strength increa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land, my peop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ke with the st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, burn the ty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up the barri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revolution, do not f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4120" y="2362320"/>
            <a:ext cx="3047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thod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00600" y="3809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jectiv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was the First Intif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wikiped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was a mass Palestinian uprising against Israeli rule that began in the Jabalia refugee camp and quickly spread throughout Gaza, the West Bank and East Jerusal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0" y="620280"/>
            <a:ext cx="4392720" cy="5761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 this poster from 1990 is saying, what do the boots, shapes and spikes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029120" cy="5394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in pairs to gather information and make notes on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s (long, short and ‘trigger’)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nclud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rael’s respon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tional reac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First Intif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tems in bold should be your headings for your notes. You can use your textbook, the printed wikipedia article etc. Be careful, there is a lot of extremely one sided information out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of the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9:11:58Z</dcterms:created>
  <dc:creator>Chris&amp;Kim</dc:creator>
  <dc:description/>
  <dc:language>en-US</dc:language>
  <cp:lastModifiedBy>Mr. Wright</cp:lastModifiedBy>
  <dcterms:modified xsi:type="dcterms:W3CDTF">2008-10-29T07:35:14Z</dcterms:modified>
  <cp:revision>13</cp:revision>
  <dc:subject/>
  <dc:title>The First Intifada</dc:title>
</cp:coreProperties>
</file>